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ct" ContentType="image/x-pict"/>
  <Override PartName="/ppt/media/image10.pct" ContentType="image/x-pict"/>
  <Override PartName="/ppt/media/image16.jpeg" ContentType="image/jpeg"/>
  <Override PartName="/ppt/media/image15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9.pct" ContentType="image/x-pict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2B9-5EE3-484C-9E3A-C15C3D71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EE2-94FF-4D65-BAA2-AF86B5BC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46A-3066-4F3B-890F-3A76CCE8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636-B489-4356-9F99-E07DE0D5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B865-CBEF-4DF7-9310-1BC9BA7F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935B-573D-4A5B-B8B6-2FA28EAF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F1EC-F48B-4B94-A522-B44FD43D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F27D-0A54-4A6A-A249-8A7ED216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D5C6-9597-4E3A-9C73-C9E67589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407B-4E06-4192-9342-8568BA6F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0DAE-A65C-4E32-898A-E9A42E43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248-1B5C-45D8-80F2-9CE82F1A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8B1D-445D-4976-9E1F-C1A128E7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A6F1-1D15-48A1-BCAE-FB8542D3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5DBF-89BC-44D4-8F3E-3E435B6E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2212-89A0-4F26-9BF4-9A8D17B0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CF91-FA1D-4806-977C-5A7D2AFC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B85-6C8C-4F8A-A622-5A4BD4C8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006-8980-4858-9FAA-26D9C1D1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A04-4A10-45D8-9788-27E6CEC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3B2-2682-4604-9BC1-F62791B0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87D-A699-4FF6-B0B7-79A972F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C39-E65B-4FE1-89E6-FA7FFCF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6BD-48D0-4018-A39B-675C97A1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DD8-8C5C-457A-9A2A-CEFEEC1EB3D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6D58-8CF6-4DBD-A916-794A051A00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5532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tmosphere"/>
                <a:ea typeface="DotumChe"/>
              </a:rPr>
              <a:t>The Future of Powe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tmosphere"/>
              </a:rPr>
              <a:t>Fuel Ce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22520" y="1600200"/>
            <a:ext cx="40975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641680" y="1600200"/>
            <a:ext cx="386064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Hydrogen Power Part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70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nly emission is w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gen is easy to obtain from w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retical efficiency: 75% to 87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ouble rarely occu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idental combus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kage (Solid metal tank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Hydrogen Power Pt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istic efficiency only reaches about 18% to 3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gen from water isn’t enough and must be obtained other ways which may result in increase of other harmful g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gen in the gas  form is tough because of the energy density. In a liquid form, hydrogen operates more effectively but storing it requires high pressure and low temperatures thus making it more difficul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imes much more expensive than fuel cars due to the complex machines that help store, moderate and move hydrogen through the c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urities tend to ruin the chemical catalyst rendering lower efficiency and life expectan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Hydrogen On Demand” Stor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llenium Cell is the leader in developing sodium borohydride-based energy sources. Using a proprietary catalyst, “Hydrogen on Demand” systems can support a range of applications from personal electronics to transport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dium borohydride (NaBH4) is a compound with very high hydrogen content. When NaBH4 is in an aqueous solution and then passed over a catalyst, it produces a large amount of hydrogen, along with a benign can be recycled back into sodium borohydr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is very costly however. Sodium borohydride, not currently a popular chemical reagent, is expensive to purchase, and it is unknown whether the price would decrease enough to be cost efficient if used in fuel cell hydrogen storag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00200" y="609480"/>
            <a:ext cx="5943600" cy="5191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Solar Fuel Cel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ly converts sunlight into electrical pow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radiation reaches the earth’s upper atmosphere at a rate of 1366 watts per square me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een from above, the Sun is really powerfu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reagent for producing electricity is silicon although other semi conductors are being tested current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276720" cy="2131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Solar- Pros/C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 field of panels can supply a tow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vely cheap compared to other metho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bsolutely no emissions except when manufacturing the cell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nergy ratio (energy used to energy produced) is about 5.6 tim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alistic efficiency reaches peak at 28%, normally around 16% to 19%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ts of variables affect the performance of the cells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ea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hadow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hotonic Pow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ystal Defec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Compari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64568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Comparison pt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23800" y="1738440"/>
            <a:ext cx="8096400" cy="3873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egata"/>
              </a:rPr>
              <a:t>What are Fuel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5181120"/>
            <a:ext cx="678204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ectrochemical conversion devi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 fuel cell a battery that does not need recharging. Batteries produce electricity from electrochemical reactions inside the battery.  But batteries have a limiting amount of reactants.  Once reactants run out-battery dead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tteries store energy.  As long as hydrogen and oxygen is supplied, fuel cell can continually produce energy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324480" cy="3423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Future of fuel cel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ready being used in smaller devices (cell phones, laptops, mp3 player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close to zero emissions, definitely will be u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 too difficult to store and too expensive to produ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ment is going on to bring efficiency up to +90%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Fuel cell diagram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27076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Why Fuel cells?</a:t>
            </a: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re Efficien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quires less maintenance, doesn’t overheat, no moving par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issions are less harmfu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uel cell electricity plants create 1 ounce of pollution vs. internal combustion electricity plants create 25 pounds of pollu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ar zero harmful gases such as Carbon Monoxide, Carbon Dioxide, Nitrous Oxides, et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ergy ratings are higher than fossil fue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ergy flow in automobiles are greater than combustion ca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n reach 0 mph to 60 mph in less than 4-6 secon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Application of Fuel Cell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ationar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ower Pla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pacecraft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ilitary Appli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uilding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mote Lo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ackup Pow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ehicula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lectric/Hybrid Ca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ilitary Vehic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lan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ublic Transportat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3632040" cy="2873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38720" y="1765440"/>
            <a:ext cx="2857680" cy="1704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regata"/>
              </a:rPr>
              <a:t>Hydrogen Power Step 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25780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Step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25780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Step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105520" cy="4589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regata"/>
              </a:rPr>
              <a:t>Step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410080" cy="4863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0:27:18Z</dcterms:created>
  <dc:creator>Sijia Qiu</dc:creator>
  <dc:description/>
  <dc:language>en-US</dc:language>
  <cp:lastModifiedBy>Punahou School</cp:lastModifiedBy>
  <dcterms:modified xsi:type="dcterms:W3CDTF">2007-04-03T18:29:03Z</dcterms:modified>
  <cp:revision>8</cp:revision>
  <dc:subject/>
  <dc:title>The Future of Power</dc:title>
</cp:coreProperties>
</file>